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12B-81A0-4AAF-8433-14E6F1BE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C5F-157F-4C6D-BC8B-B0F1D70C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8A2-81CF-4424-8CE6-1A18044F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A14-1A31-48AA-A0EE-E98FCEC8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087-3DC4-452B-BC49-ED3DF409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A87-C7B6-4D7A-BB0D-069042A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80A-5535-4D8C-BC07-27A6E8F6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043-DFA6-4B98-9047-07BC9024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522-474C-4224-8A53-0B62BE0C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D3E-D185-4945-BA9D-A8E0EC2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0CF-07DB-4597-BD8E-AF23A65E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5B9-269D-479C-A578-94E79E02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867-28EE-4E6A-BB89-24521E130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hearing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arina Miljkov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ngland Conservatory of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creating canonic 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, always changing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rhythmic permutations based on the width of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variation of density resulting from a number of simultaneous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Rhythmic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2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with modal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inat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ength of modules produces significantly differ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mposition of different cycles results in a very rich rhythmic 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longed chaotic sound complex with a dense rhythm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directional, 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onant, chr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ce of significant variation of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possibility of variation of quality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music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 of music in a traditional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Scale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blocks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from order to chaos and back to a complex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samples within each sound block resembles the general characteristics of the Class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“quot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hearing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80480" y="2514600"/>
            <a:ext cx="53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based on 256 Elementary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ired by 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sounds generated by NKM into a large scale sonic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, Science, 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eti, Xena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malized Mus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Music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 Representation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6 Elementary Ru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31240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ing the same music parameters to each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e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rding to a degree of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, repet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with tonal or modal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 of a single sound or a ch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longed single sound or a ch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tr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layered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21:47:11Z</dcterms:created>
  <dc:creator>New England Conservatory</dc:creator>
  <dc:description/>
  <dc:language>en-US</dc:language>
  <cp:lastModifiedBy>New England Conservatory</cp:lastModifiedBy>
  <dcterms:modified xsi:type="dcterms:W3CDTF">2005-10-07T19:10:41Z</dcterms:modified>
  <cp:revision>4</cp:revision>
  <dc:subject/>
  <dc:title>Overhearing Complexity</dc:title>
</cp:coreProperties>
</file>